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3556-AF5D-4AF4-A567-2545EA1D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C95-85BF-4EBC-8847-97D335EA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05B-0E03-4A93-B1AD-71DAB5BB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0AF-6CA7-4B45-84C0-42BE7064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D66C-0A0C-4338-A0FD-05B53F64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5148-4DB1-4F1B-81BB-72D73228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658B-BCD7-497E-A753-AC779593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066-4CCC-4E08-AAC9-94E9E609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910-C1B2-4A8D-9434-07FE0070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84F3-2373-468D-B236-E847BBA3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47E-8F56-42C4-916D-51FB96C6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209-8C16-404D-BB63-7629063A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3A43-25C4-43A0-8264-129698801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E:/BIG%20BUSINESS/Pictures/Info%20Used%20from:http:/www.ilr.cornell.edu/trianglefire/narrative1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470240"/>
          </a:xfrm>
          <a:prstGeom prst="rect">
            <a:avLst/>
          </a:prstGeom>
          <a:noFill/>
          <a:ln cap="rnd" w="7632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riangle Shirtwaist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81080" y="2285640"/>
            <a:ext cx="2362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his is what they were ma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2819160" cy="2379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502920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O do you think was working in this sweatshop??????? WHY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78200" y="0"/>
            <a:ext cx="53658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1613520"/>
            <a:ext cx="3352680" cy="283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sch Building, on the corner of Greene Street and Washington Place, was one of the new “fire-proof” buildings, but the blaze on March 25th was not their first.  It was also not the only unsafe building where young immigrants worked 6 or 7 days each we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01880" y="0"/>
            <a:ext cx="5442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1791360"/>
            <a:ext cx="3352680" cy="283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sch Building, on the corner of Greene Street and Washington Place, was one of the new “fire-proof” buildings, but the blaze on March 25th was not their first.  It was also not the only unsafe building where young immigrants worked 6 or 7 days each we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7800"/>
            <a:ext cx="9144000" cy="119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240 employees sewing shirtwaists on the ninth floor had their escape blocked by back-to-back chairs and work baskets in the aisles.  Walking space was so limited that many were forced to climb over the 75-foot long tables to get to the windows, stairs, and elevators that might lead to saf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65400" y="0"/>
            <a:ext cx="51786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1523880"/>
            <a:ext cx="3124080" cy="1068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e Escape 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475240" cy="6858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5333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s/Info Used fro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lr.cornell.edu/trianglefire/narrative1.htm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6:34:31Z</dcterms:created>
  <dc:creator>Administrator</dc:creator>
  <dc:description/>
  <dc:language>en-US</dc:language>
  <cp:lastModifiedBy>Alton Farnsworth</cp:lastModifiedBy>
  <dcterms:modified xsi:type="dcterms:W3CDTF">2009-10-26T22:50:41Z</dcterms:modified>
  <cp:revision>2</cp:revision>
  <dc:subject/>
  <dc:title>Slide 1</dc:title>
</cp:coreProperties>
</file>